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737-AB31-4674-985C-229769C48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112-484E-4A23-B706-8BA79E07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48D5-398A-4113-8E68-B641E6B36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и дошао до 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акључка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да су код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предака Тепе Хисара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болести зуба постојале у великом степе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93B3-FC1D-46E2-B10B-BED5C702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itivan covek dosta paznje je pridavao nezi zub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4C06-C54A-42BF-9EC4-676527FC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Временски период од тренутка када је праисторијски човек почео да израђује оруђе и оружје се дели према материјалу од кога је прављено и начину његове обраде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AD9-3302-45D4-ADA9-15D7752B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орба против разних болести и повреда, које су биле врло честе, као и против смрти, спада у основни нагон човеков за самоодржањ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BDA-4E8F-4BB6-8AEC-82B2E641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1AA-EDD3-404D-BC38-EFF0F64B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5B3-B154-4A2E-AD13-8FAF814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A03-2733-4EB6-99D2-937E2669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DD3-ABBC-4DD1-92C3-11D666A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1000-919E-4E51-9161-2D76117C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E54C-AD38-4A5B-B303-B6A891A0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A8E-D661-40C7-A22E-9FAA17AF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C634-72EF-486C-83E5-7D27833B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64EE-4A9B-4F45-91D5-C1B79A21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2A04-9EB4-4566-B909-3420D2C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A77B-34CC-45EA-A02F-236B3E0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88D-94C4-459B-84F3-A2EA21C4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6FBE-65F7-4E5C-974D-8BE906F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122D-96F8-42F2-9946-A961DFF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1CF5-9C17-493F-8BBA-E9B5F8C8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BDD8-7E81-43F0-9C9D-C29B2025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82B6-8B16-4106-B665-588D406D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DBF7-0C43-4DCC-9131-CF20997F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9A02-C173-4C49-9327-2077E873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2998-120A-4055-9F53-F4647E3A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FD65-737E-4A3E-96C6-263DD52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32F4-A599-44A9-948A-94160E4F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B1E-0F7C-41E4-A8C3-FF2034D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A3EA-87CF-467C-ACB6-6C5320A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4C5E-FC5D-4C49-846F-FDAAFB99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4AFA-241C-4EE4-B734-40C4170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F058-7B4F-4A7B-B4A7-759CCCC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7015-633A-4C60-AED7-0B6E28D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CAA5-812B-416B-94E6-D4DD51F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2221-099A-4CB5-885F-3377ACB7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F22B-05BF-421F-9CE3-4B9DD03A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BF5A-EDF4-4EC5-9CCD-E6C55350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3898-EDED-402E-95AE-1CB9349E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4A7-1E60-43E8-9C54-94818C8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DA3B-F423-4B86-9963-33DAC177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22F6-7994-4AF6-8ED8-D2FAC148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E8A4-E7D9-4E56-AB25-4E5E5082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A33C-AD66-434C-A8D9-93E687DD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5381-C46F-4BBB-8A7D-567BDC1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E098-70EB-4441-A4FB-3BF5D74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A79D-03A4-4AC0-BDC2-6C0D0DD5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C9EE-77FF-4CB4-A6AA-EEB20913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DCB9-9757-422B-8625-9C6E485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1660-8E45-411C-80CC-084EABF4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887-3517-4675-ABA4-7D1190A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D77D-A2A9-48CD-AE12-E7FE0F8D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EA1A-C4D3-41FA-8E8D-3A8AE230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2277-83E5-4A07-A268-BE1F5927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6BAB-C87D-4CC6-BFB2-21A67C62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E7317-1985-42FC-885C-9B7C3BA7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8CC4-DD19-467C-B031-FFA45D9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644F-8C4A-42DC-B370-BA604DD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769F-0CE7-46DB-8226-5226EB5E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82D0-C1C9-47AC-BD98-6244469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B304-6DC0-404D-B16B-1818EC25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154-AA6D-4A3E-9DD2-BE57168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9C307-813A-4144-B484-62B3EB26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5612-3725-47DB-BF39-A5B72DA5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CB92-257A-42FD-9E1E-5C353673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CD120-CF80-4CD9-B309-705DEA9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FFB0-671D-406B-B454-D66AC74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1082F-7B03-4771-AFA4-1C16B60B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338A-1E4A-4F86-9C7A-0765724E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6CFE-E61E-473B-A3BD-7FBE7E4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53354-6E58-469C-BEB1-8184A98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1FC6-2CDE-451C-B294-2C69911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0F8-A79E-4EA0-8D0E-8319C50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FBCA-06F4-4DF0-BEE3-3B2E219D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D992-44EE-4AA5-A88B-2715DFEF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9293-F15E-46D0-8343-43C9A7CA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DD75C-1404-42F3-9286-9A42F98F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FBE8-A5DF-4A69-8E5F-2152BFA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127B6-DC2D-4C45-95F3-F8635170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DA59-7B67-4196-B03E-923786D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9F834-EBE9-4223-B008-04BE1B38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33B36-ED2C-47C9-8EBA-E878930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B417-B72F-497A-97E3-345C1ED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EE9-17B5-47D0-B357-B047823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219D-6CD7-4B4C-BDC2-718C862C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26D1-0616-448A-8E75-430F847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690D-B609-40B9-918F-C07D20F3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A87ED-976A-4482-990C-A7F874D2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C860-AF99-4F79-AE4E-EE6C676A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7467B-AD98-4A83-BC9A-AD9670CC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4509-191C-4A57-8D88-31AB953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3731A-9AA1-409C-8CEA-C041DD0E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24C5-E0D9-4C81-87CD-EAE3BF3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D9D0E-3A1A-4076-840D-49A12EDB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186-A715-431A-A166-4E50B1F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9C080-9038-4F70-894A-79DD847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52CD-5810-4BB7-91C4-C8796F3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5EE9-D420-44DE-AD5D-776BE96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3AE3D-4622-494D-8CDB-392F1FC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BD25-22AE-4977-B493-AA2DBAFB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5AC1-8BB2-42D2-99DB-404FE9A2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0ECE9-414C-413B-9A33-86B0B1EA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B6CC-A654-462F-B7E7-E511568D27D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EBCF-4228-4C3A-96C8-8A55E7B5ABCB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CC26-3D35-40B2-8166-1AE4A34B0379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A59-5701-4A20-84E6-CDF4C637EA12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8CEE-4A9E-47C0-AC41-99B9BB413F72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EA2-9348-4236-B811-4E383CF2080F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E11-DF05-4E7C-B24D-6D2249EB1DE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F66A-DE6C-4C3F-B8A3-D43443BCBB6C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43;&#1088;&#1095;&#1082;&#1080;_&#1112;&#1077;&#1079;&#1080;&#1082;" TargetMode="External"/><Relationship Id="rId2" Type="http://schemas.openxmlformats.org/officeDocument/2006/relationships/hyperlink" Target="http://sr.wikipedia.org/sr-el/&#1051;&#1072;&#1090;&#1080;&#1085;&#1089;&#1082;&#1080;_&#1112;&#1077;&#1079;&#1080;&#1082;" TargetMode="External"/><Relationship Id="rId3" Type="http://schemas.openxmlformats.org/officeDocument/2006/relationships/hyperlink" Target="http://sr.wikipedia.org/sr-el/&#1055;&#1080;&#1089;&#1084;&#1086;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40;&#1092;&#1088;&#1080;&#1082;&#1072;" TargetMode="External"/><Relationship Id="rId2" Type="http://schemas.openxmlformats.org/officeDocument/2006/relationships/hyperlink" Target="http://sr.wikipedia.org/sr-el/&#1050;&#1086;&#1085;&#1090;&#1080;&#1085;&#1077;&#1085;&#1090;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r.wikipedia.org/sr-el/&#1055;&#1072;&#1083;&#1077;&#1086;&#1083;&#1080;&#1090;" TargetMode="External"/><Relationship Id="rId3" Type="http://schemas.openxmlformats.org/officeDocument/2006/relationships/hyperlink" Target="http://sr.wikipedia.org/sr-el/&#1052;&#1077;&#1079;&#1086;&#1083;&#1080;&#1090;" TargetMode="External"/><Relationship Id="rId4" Type="http://schemas.openxmlformats.org/officeDocument/2006/relationships/hyperlink" Target="http://sr.wikipedia.org/sr-el/&#1053;&#1077;&#1086;&#1083;&#1080;&#1090;" TargetMode="External"/><Relationship Id="rId5" Type="http://schemas.openxmlformats.org/officeDocument/2006/relationships/hyperlink" Target="http://sr.wikipedia.org/sr-el/&#1052;&#1077;&#1090;&#1072;&#1083;&#1085;&#1086;_&#1076;&#1086;&#1073;&#1072;" TargetMode="External"/><Relationship Id="rId6" Type="http://schemas.openxmlformats.org/officeDocument/2006/relationships/hyperlink" Target="http://sr.wikipedia.org/sr-el/&#1045;&#1085;&#1077;&#1086;&#1083;&#1080;&#1090;" TargetMode="External"/><Relationship Id="rId7" Type="http://schemas.openxmlformats.org/officeDocument/2006/relationships/hyperlink" Target="http://sr.wikipedia.org/sr-el/&#1041;&#1088;&#1086;&#1085;&#1079;&#1072;&#1085;&#1086;_&#1076;&#1086;&#1073;&#1072;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93600" y="1243080"/>
            <a:ext cx="71629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596960" y="-36360"/>
            <a:ext cx="7553520" cy="1444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566640" y="1103040"/>
            <a:ext cx="8577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опине и палеонтолошка налазишт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елети, проучени методама палеопатологије (наука која испитује обољења од којих је боловао човек праисторијског доба), на којима су пронађене разне патолошке проме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љења уста и зуба: артритис, пери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тис, пиореја, каријес, фистула, периапикални апсцес, абразије, хипоплазије (непотпуна развијеност)  и фрактур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3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596960" y="298440"/>
            <a:ext cx="7553520" cy="1444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761760" y="2704680"/>
            <a:ext cx="81406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ипови из палеонтолошких налазишт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трогрифи — разни цртежи на пећинским зидовим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лошка веровања која су се сачувала до данас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3" descr="Резултат слика за praistorija"/>
          <p:cNvPicPr/>
          <p:nvPr/>
        </p:nvPicPr>
        <p:blipFill>
          <a:blip r:embed="rId2"/>
          <a:stretch/>
        </p:blipFill>
        <p:spPr>
          <a:xfrm>
            <a:off x="2324160" y="1376280"/>
            <a:ext cx="52959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" dur="1" fill="hold"/>
                                  <p:tgtEl>
                                    <p:spTgt spid="3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1011240" y="-6480"/>
            <a:ext cx="7559640" cy="17496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595440" y="1625400"/>
            <a:ext cx="854856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Проучавање разних народа и племена чији се степен развитка поклапа са ст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епеном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развитка преистор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. 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овека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Поједина веровања, обичаји и мишљења који с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заједнички многим или већини народа, иако живе одвојено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Порекло извесних ре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49280" y="529920"/>
            <a:ext cx="869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CS" sz="3900" spc="-1" strike="noStrike">
                <a:solidFill>
                  <a:srgbClr val="000000"/>
                </a:solidFill>
                <a:latin typeface="Times New Roman"/>
              </a:rPr>
              <a:t>Праисторија</a:t>
            </a: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ма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. Morgan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праисторија се дели на два велика историјска раздобља (које свако за себе имају свој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иж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едњ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и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иш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степен развоја)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ивљаштв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арвар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06080" y="333000"/>
            <a:ext cx="8737560" cy="62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вљаштво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о прва велика епоха у којој се формира човек кога карактерише неартикулисани говор и ограничени ниво схватања појава и природе која га окружуј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06080" y="333000"/>
            <a:ext cx="8737560" cy="62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вљаштво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нижем степен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вог раздобља "...лечење је било у виду некаквих неконтролисаних радњи и покрета...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инстиктивни покрети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оје ће бити присутне и у каснијим раздобљима све до фазе емпири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»Инстинкт је заменила свест.«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неартикулисаних гласова, крикова-развој артикулисаног гово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4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0"/>
            <a:ext cx="9144000" cy="65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вљаштво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средњем степен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овек развија мануелну способност, и израђује оруђа и оружја која су му потребна за свакодневни живот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демонистичка веровања у порекло болести. Сваку болест или повреду он приписује неком наслућеном демону...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матрало се да су зубна обољења дело демона који у облику црва буши зуб. Да би се зуб излечио, црв-демон је морао бити уништен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Резултат слика за praistorija"/>
          <p:cNvPicPr/>
          <p:nvPr/>
        </p:nvPicPr>
        <p:blipFill>
          <a:blip r:embed="rId1"/>
          <a:stretch/>
        </p:blipFill>
        <p:spPr>
          <a:xfrm>
            <a:off x="4732200" y="5326200"/>
            <a:ext cx="36576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4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74240" y="798120"/>
            <a:ext cx="8969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вљаштво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ишем степен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вљаштва човек - када се формира "Хомо Сапиенс", све више напушта пећински начин живота и живи у  саграђеним објектима (колиба, сојеница) које је саградио сопственим рукам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иње да обрађује земљу и за тај рад користи домаће животињ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4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79520" y="392040"/>
            <a:ext cx="86644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sr-CS" sz="3400" spc="-1" strike="noStrike">
                <a:solidFill>
                  <a:srgbClr val="000000"/>
                </a:solidFill>
                <a:latin typeface="Times New Roman"/>
              </a:rPr>
              <a:t>Варваство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поха коју карактериш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вој људске личности и његове свест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њему човек све више израђује оруђа и бави се појединим делатностим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ају се заједнице љу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према супротном полу и деци, а почиње и подела људи унутар самих насеобин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1" dur="1" fill="hold"/>
                                  <p:tgtEl>
                                    <p:spTgt spid="4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56628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Варваство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зовани начин живот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брига о здрављу  организују се  на нивоу самопомоћ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јављају се први облици медицине, који ће се под утицајем спољних фактора, базирати на развоју стеченог искуства који ће временом израсти у  у суверени облик лечења.“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4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раистор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od 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Times New Roman"/>
                <a:hlinkClick r:id="rId1"/>
              </a:rPr>
              <a:t>grč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ροϊστορί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πρ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ιστορί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ч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la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aehistor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ra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тход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тинизована реч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ιστορί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је временски период који траје до појаве првих 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Times New Roman"/>
                <a:hlinkClick r:id="rId3"/>
              </a:rPr>
              <a:t>пис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66640" y="1498680"/>
            <a:ext cx="85773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У складу са карактеристикама примитивног начина мишљења, начина живота и друштвеном организацијом најнижег нивоа, развијала се и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магичнорелигиозна медицин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Врачеви, магови, чаробњаци, шамани итд, нису лечили применом природних агенаса већ, ,,чаробном моћи,, и од бога датим знањ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934920" y="231840"/>
            <a:ext cx="7543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4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581040" y="973080"/>
            <a:ext cx="85629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Размишљења примитивних народа одликује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"анимизам"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"фетишизам"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ви људи и објекти  имали су душу, и она је из човека одлазила за време спавања или након смрти, али је и даље присутна у животу, и прелази на здраве и у њима узрокује боле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..да би се она избацила из тела, праисторијски човек је сматрао да треба посегнути за разним врстама „трикова“..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3" dur="1" fill="hold"/>
                                  <p:tgtEl>
                                    <p:spTgt spid="4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0" y="168444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Болест улази у човеково тело и његову душу и да би се тело и душа, очистили-излечили потребно је из тела избацити злог дух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Узроци болест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чарања (бајања) других особа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хирови демона ил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казне разјарених бог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7" dur="1" fill="hold"/>
                                  <p:tgtEl>
                                    <p:spTgt spid="4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06080" y="1436760"/>
            <a:ext cx="87375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целитељи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лавном свештени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јер се лечење сматрало светим обредо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ђу исцелитељима је било и оних који су се „лечењем“ бавили ради стицања повлашћеног друштвеног положај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сцелитељ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95440" y="1079280"/>
            <a:ext cx="8548560" cy="53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целитељи према 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бспецијалност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, једни за лечење различитих болести, као што су се (нпр. код Астека), јављали врачеви, и шамани или чаробњаци (у Азији и Африци.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icit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оји су више били упућени у чаробне поступке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omiquet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нпр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чење ра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вреда у борб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или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amatlquitici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абиц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ужени за праћење трудноћ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70164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сцелитељ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9" dur="1" fill="hold"/>
                                  <p:tgtEl>
                                    <p:spTgt spid="4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11360" y="987480"/>
            <a:ext cx="8432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Умни појединаца,  посматрајући околну природу, изводили су  закључке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о лековитим својствима одређених агенаса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и та своја открића примењивали у лечењу боле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асно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</a:rPr>
              <a:t>ују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хранљиве, лековите и отровне материје,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и та сазнања користе за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 своје телесне потребе: упознао је јачу хранљиво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 зрнасте хране него траве, зеља и поврћа,  поред лова и сточарства почео упражњавати и земљорадњу, сејући разне врсте жита и поврћа и садећи различито воће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846000" y="5382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5" dur="1" fill="hold"/>
                                  <p:tgtEl>
                                    <p:spTgt spid="4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20480" y="1495080"/>
            <a:ext cx="872316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тврдио 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армако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динамичка својства биљ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једно биље пече по кожи и изазива на том месту оток и црвенило, да друго изазива повраћање, пролив или затвор, да га треће опија и заноси, а да остало показује раз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друга дејств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На основу тог доживљеног искуств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стекао је прва знања о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физиолошком дејству лекова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одредио њихову примену при лечењу и многом биљ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о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имена баш према њиховом физиолошком дејств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523800" y="3348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123560"/>
            <a:ext cx="8763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r-HR" sz="2600" spc="-1" strike="noStrike">
                <a:solidFill>
                  <a:srgbClr val="000000"/>
                </a:solidFill>
                <a:latin typeface="Times New Roman"/>
              </a:rPr>
              <a:t>буника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«, »као да се на јео бунике«,  изазива буновно стање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лудач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 (беладона), јер изазива у отровној дози краткотрајно стање суманутос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бесњач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« (дигиталис), јер изазива у отровној дози кратко стање беснил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као је и искуство о биљним и животињским отровима али и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противотров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ја су користили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тровању својих непријатеља или дивљих животи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89000" y="203040"/>
            <a:ext cx="7399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9" dur="1" fill="hold"/>
                                  <p:tgtEl>
                                    <p:spTgt spid="4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9440" y="1485720"/>
            <a:ext cx="86742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уталан начин живота –документован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вредама на ископаним костурим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ећина рана налази се на глави, што је зависило о природи битака тога времена, и стрелица које су се забијале у различите делове тел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рактуре костију- могле су за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 применом одговарајућ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обилиз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највероватниј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ном завоја од глин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6937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5" dur="1" fill="hold"/>
                                  <p:tgtEl>
                                    <p:spTgt spid="4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93840" y="1434600"/>
            <a:ext cx="875016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трола крварења и прекривање ране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озима” (блато, маховина, храстова кора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ли су први човекови кораци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чењу ра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ромањ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ци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нађена с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уђа слична скалпелу и коштане игле с ушицам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4000-1800 г. пне – пронађени су видљив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кушаји хируршких захвата на остацима лобањ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36520" y="189000"/>
            <a:ext cx="8056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7" dur="1" fill="hold"/>
                                  <p:tgtEl>
                                    <p:spTgt spid="4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д постанка човека до првих писаних споменика обухвата праисториско доба, поклапа се с друштвеним уређењем првобитне зједнице, у којем је владло емпиријско и демонистичко схватање боле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4160" y="1193400"/>
            <a:ext cx="88898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Гинеколог и историчар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Царски рез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е спроводи   још од каменог доба самоуци многих примитивних племена у разним крајевима света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јнхард Хофшлег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9" dur="1" fill="hold"/>
                                  <p:tgtEl>
                                    <p:spTgt spid="4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64880" y="1155240"/>
            <a:ext cx="897876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Знали да извод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хируршке захват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имобилизације и ампутације удова, расецање апсцеса, трепанације лобање итд)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ришћена је  нека врст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езинфекције, испирање инструмената и ране кокосовим млек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али и веома сурова метод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аљивања крварећих ра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28560" y="24768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1" dur="1" fill="hold"/>
                                  <p:tgtEl>
                                    <p:spTgt spid="4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03040" y="1219320"/>
            <a:ext cx="8940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археолошким остацима раног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mo sapiens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етко се могу наћи особе старије од педесет година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 остацима постој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рло мало доказа о дегенеративним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ли другим болестим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оје се јављају у старости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стаци обилују налазима са знацим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болести или повреде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 који су последиц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живота на отвореном у суровим условим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медиц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3" dur="1" fill="hold"/>
                                  <p:tgtEl>
                                    <p:spTgt spid="4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42720" y="1112400"/>
            <a:ext cx="8800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торија стоматологије старија од историје медицин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бог особине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с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теже разрушиви органи чов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јег тела, зуб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 још од најранијих времена би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мет размишљања, поштовања и обожавања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еровање да у њима постоји нека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тајанствена снага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која је на неки начин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овезивана са бесмтрношћу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9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а је претпоставка настала на основу података о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имитивним обичајима</a:t>
            </a:r>
            <a:r>
              <a:rPr b="0" lang="sr-C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4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203040" y="203040"/>
            <a:ext cx="74329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363600" y="1015920"/>
            <a:ext cx="850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рактеристичан за  урођенич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емена у Аустралиј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ладићи и девојке у време пубертета врш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емониј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је илуструју претпоставк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 скривеној животној снази у зуб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њи зуби се избиј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над њима се обави ритуал којим се »потхрањује«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мишљена виталност скривена у зуб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уби се баце негде далеко или се сакрију у кору стабла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али се никоме не дозвољава да сазна за то скривено место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 непријатељ не би пронашао зубе и тиме задобио контролу над ранијим власник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91600" y="698400"/>
            <a:ext cx="885204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клаћени зуб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к слабљења снаге и весником старости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 су се због тога проучавали можда пре иједног другог органа човечјег тел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нтална анатом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претеча односно почетак шире анатомск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уке, чији је она данас само један де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7" dur="1" fill="hold"/>
                                  <p:tgtEl>
                                    <p:spTgt spid="4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203040" y="774720"/>
            <a:ext cx="8940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леоодонтолог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уке која проучава болести зуба прачо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антрополошки подаци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кривени су трагови разних болести зуб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могућност испитивања  обољења уста и зуба прастарих људи још из доба из којег нема писаних докумената, (од 100 000 па све до око 5000 година пре н. 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гови обољења људ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вотиња из п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торијског доба наводе на чињеницу да је и прачовек патио од тих боле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17520" y="1257480"/>
            <a:ext cx="882648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ак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погледу потпунос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незадовољавају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алеоодонтолошки материјал, ипак је довољан да покаже да ј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ар зуба давно постојао и да је старији од човека, јер су од њега боловали и други сиса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ао на пример, мастодонт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тале структуралне деформације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авилност у раст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уба, њихова прекобројност, уска вилиц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тд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3" dur="1" fill="hold"/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5680" y="1181160"/>
            <a:ext cx="878832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Многи зуби праљуди испољавали су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поодмаклу абразију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(прекомерног трошења зуба)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која је наступила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као последица жвакања врло тврде хране, услед чега су се постепено трошили чврсти делови зуб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9" dur="1" fill="hold"/>
                                  <p:tgtEl>
                                    <p:spTgt spid="4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касном плестоцен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ледено доба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пактирани (зуби који уопште нису изникли у вилици) трећи молари, тзв. »зубе мудрости« са мал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лечним канинусом (очњак) , који се задржао на свом мест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другим примерима очевидан је недостатак клица првог премола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1244520" y="0"/>
            <a:ext cx="56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малијама  ко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Homo mousteriensisa Hauser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1" dur="1" fill="hold"/>
                                  <p:tgtEl>
                                    <p:spTgt spid="4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11000" y="1981080"/>
            <a:ext cx="84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ff8119"/>
                </a:solidFill>
                <a:uFillTx/>
                <a:latin typeface="Times New Roman"/>
                <a:hlinkClick r:id="rId1"/>
              </a:rPr>
              <a:t>Африка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 се сматра колевком човечанства, јер је до сада на простору овог </a:t>
            </a:r>
            <a:r>
              <a:rPr b="0" lang="sr-Latn-CS" sz="27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континента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 пронађено највише остатака праисторијских људи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itle 1"/>
          <p:cNvSpPr/>
          <p:nvPr/>
        </p:nvSpPr>
        <p:spPr>
          <a:xfrm>
            <a:off x="1066680" y="304920"/>
            <a:ext cx="7543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" dur="1" fill="hold"/>
                                  <p:tgtEl>
                                    <p:spTgt spid="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1231560"/>
            <a:ext cx="91440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ачуван је сребрни пехар на коме је приказан скитски стрелац са луком како с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 саборцу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прегледа уста и истражује узрок зубобољ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 »Лекар« чврсто држи главу »пацијента« левом руком, док кажипрстом десне руке палпира зуб. Пацијент, опет, својом десном руком хвата за руку лекара, како би ублажио бол проузрокован интервенцијо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но индоевропско до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1" dur="1" fill="hold"/>
                                  <p:tgtEl>
                                    <p:spTgt spid="4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746280" y="785880"/>
            <a:ext cx="7812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31280" y="1257480"/>
            <a:ext cx="871236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бјавио је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рад о испитивањима скелетног материјала пронађеног у Тепе Хисару и Дам- гаму, у Иран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јужно од Каспијског језер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Од 58 дечјих лобањ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у три случаја нашао каријес зуб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а у два апикални апсце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Лукови су били регуларне параболе, без збијености или малпозиције зуб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неправилан положај зуба)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36520" y="18900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Walter Marion Krog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5" dur="1" fill="hold"/>
                                  <p:tgtEl>
                                    <p:spTgt spid="4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Код 150 лобања и 110 мандибула одраслих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просечне старости од око 35 год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каријес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псце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ирегулар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зу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сти зуба су постојале у великом степену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36520" y="304920"/>
            <a:ext cx="7399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Walter Marion Krog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4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203040" y="1981080"/>
            <a:ext cx="894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Јуж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Амер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I веку наше ере, ста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еруанц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 болова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апсцеса вилица са великим разарањем алвеоларног греб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Очевидно није било покушаја да се болесни зуби екстрахирај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ло је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авилности у ницању  као и  ирегуларних, импактираних и прекобројних зуб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93760" y="50796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ри Перуанц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1" dur="1" fill="hold"/>
                                  <p:tgtEl>
                                    <p:spTgt spid="4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67920" y="1359000"/>
            <a:ext cx="877572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ишће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зуба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нарецканим штапиће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какви су се сретали и касн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точна Африка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неопход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т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свакоднев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јутар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пра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зуб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Црни људи су уживали у белини зуба због контраста с црном бојом кож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уготрај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групна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јутар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пра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»четкица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«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винејци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дрвена четкица са месинганом жиц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293760" y="50796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га зу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4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860400" y="1131840"/>
            <a:ext cx="7728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609120" y="1168200"/>
            <a:ext cx="85345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епшавања« на деловима лица као  и зуб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ичај се  проширио  касније на Ескиме и Индијанце у североисточној Америци, све до Јованских острва у Аустралиј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је се увек бирала средина зубног низа, иако је она била најпогодниј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штрење секутића у оба зубна низа -  утисак чељусти звери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р је заоштравање горњих зуба одговарало зарезивању антагониста, услед чега с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уби уклапали једни у друге као код ајкул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93760" y="50796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жност естетског изгле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3" dur="1" fill="hold"/>
                                  <p:tgtEl>
                                    <p:spTgt spid="4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66600" y="0"/>
            <a:ext cx="2667240" cy="3575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1178280" y="4682160"/>
            <a:ext cx="53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Улепшавање-« у пределу горње ус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2"/>
          <a:stretch/>
        </p:blipFill>
        <p:spPr>
          <a:xfrm>
            <a:off x="3506760" y="0"/>
            <a:ext cx="5637240" cy="3595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3655800" y="3621600"/>
            <a:ext cx="51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Оштрење секутића у оба зубна ни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812880" y="1552680"/>
            <a:ext cx="83311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вар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деформација зуба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стални пратиоци првобитних људи још од самог почет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аследни фактори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су се преносили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 с генерације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генерацију,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јер се још срећу импактирани, прекобројни, ирегуларни зуби, као и случајеви анодонције (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</a:rPr>
              <a:t>отпуни недостатак зуба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93760" y="507960"/>
            <a:ext cx="7399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историј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ка стомат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9" dur="1" fill="hold"/>
                                  <p:tgtEl>
                                    <p:spTgt spid="4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993600" y="298440"/>
            <a:ext cx="7553520" cy="14446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79520" y="1981080"/>
            <a:ext cx="86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Ако пођемо од дефиниције "...да је историја хроника неког времена..." (Цицеро) онда је то оно историјско раздобље које почиње када се човек јавља као билошко биће и траје до појаве првих писаних споме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3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000080" y="298440"/>
            <a:ext cx="7553520" cy="1444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старије камено доба (</a:t>
            </a:r>
            <a:r>
              <a:rPr b="0" lang="sr-Latn-CS" sz="30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палеолит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средње камено доба (</a:t>
            </a:r>
            <a:r>
              <a:rPr b="0" lang="sr-Latn-CS" sz="3000" spc="-1" strike="noStrike" u="sng">
                <a:solidFill>
                  <a:srgbClr val="ff8119"/>
                </a:solidFill>
                <a:uFillTx/>
                <a:latin typeface="Times New Roman"/>
                <a:hlinkClick r:id="rId3"/>
              </a:rPr>
              <a:t>мезолит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млађе камено доба (</a:t>
            </a:r>
            <a:r>
              <a:rPr b="0" lang="sr-Latn-CS" sz="3000" spc="-1" strike="noStrike" u="sng">
                <a:solidFill>
                  <a:srgbClr val="ff8119"/>
                </a:solidFill>
                <a:uFillTx/>
                <a:latin typeface="Times New Roman"/>
                <a:hlinkClick r:id="rId4"/>
              </a:rPr>
              <a:t>неолит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) и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ff8119"/>
                </a:solidFill>
                <a:uFillTx/>
                <a:latin typeface="Times New Roman"/>
                <a:hlinkClick r:id="rId5"/>
              </a:rPr>
              <a:t>метална доб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3000" spc="-1" strike="noStrike" u="sng">
                <a:solidFill>
                  <a:srgbClr val="ff8119"/>
                </a:solidFill>
                <a:uFillTx/>
                <a:latin typeface="Times New Roman"/>
                <a:hlinkClick r:id="rId6"/>
              </a:rPr>
              <a:t>бакарно доб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или енеолит, </a:t>
            </a:r>
            <a:r>
              <a:rPr b="0" lang="sr-Latn-CS" sz="3000" spc="-1" strike="noStrike" u="sng">
                <a:solidFill>
                  <a:srgbClr val="ff8119"/>
                </a:solidFill>
                <a:uFillTx/>
                <a:latin typeface="Times New Roman"/>
                <a:hlinkClick r:id="rId7"/>
              </a:rPr>
              <a:t>бронзано доб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и гвоздено доба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3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054080" y="298440"/>
            <a:ext cx="7559640" cy="1444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63600" y="1981080"/>
            <a:ext cx="878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 палеолита, преко неолита и бронзаног до гвозденог доба, човек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протстављао разним тешкоћама, (болестима, повредама, смрти)  при чему се  развијао и напредова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гон  за самоодржање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f5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34880" y="363240"/>
            <a:ext cx="849168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еоантропологија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м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људске еволу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е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томске и генетске везе праљуди, тј. човеколиких мајму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inid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д периода од неколико милиона година уназад па све до модерног времен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52320" y="406440"/>
            <a:ext cx="78091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119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алеопатологиј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ви се проучавањем остатака болести и повреда у људским кости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 болести усне шупљине чо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е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нство одувек болуј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нимљивост- 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ње кромањонаца, који су живели пре 25.000 година, показују знакове карије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23:31Z</dcterms:created>
  <dc:creator>kaic</dc:creator>
  <dc:description/>
  <dc:language>en-US</dc:language>
  <cp:lastModifiedBy>User</cp:lastModifiedBy>
  <dcterms:modified xsi:type="dcterms:W3CDTF">2021-02-01T09:56:21Z</dcterms:modified>
  <cp:revision>360</cp:revision>
  <dc:subject/>
  <dc:title>RAZVOJ ZDRAVSTVENE KLUTURE</dc:title>
</cp:coreProperties>
</file>